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023541"/>
        <c:axId val="44728885"/>
      </c:barChart>
      <c:catAx>
        <c:axId val="810235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728885"/>
        <c:crosses val="autoZero"/>
        <c:auto val="1"/>
        <c:lblAlgn val="ctr"/>
        <c:lblOffset val="100"/>
        <c:noMultiLvlLbl val="0"/>
      </c:catAx>
      <c:valAx>
        <c:axId val="447288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0235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130A-468A-4C03-BD41-03B33DD9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4693-DD97-4169-967A-511D60DE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BA76-9717-40B6-A0C0-33B911076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0830-080C-48B0-A06D-4445C530B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5E9D-8F20-4019-8E23-C8753E7E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A9D3-13AA-4208-80DB-06F74BE1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1511-68ED-4C53-BE51-25D483AC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9E3E-4FF7-405F-B786-68F31DE0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2991-8E36-4851-BCD7-8588F275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3885-AB26-4538-ADD4-3B5A0DDE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B78D-55B4-47A0-BB66-0C71549C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DFAA-9246-4D96-A276-C7CDD7DF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71DC42-01EC-451E-BA30-9F42F1A004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