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2640" y="685440"/>
            <a:ext cx="45687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42273C-7026-45D2-A3AE-AD12B8E821F0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B2E77-B9BF-4155-B746-9FD78D723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DE8D5-EED3-44AB-8209-4F6068A64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E2FDA-6B51-4EE8-95EF-400E754B7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200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92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200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92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8F54B-3F63-498D-8197-0625C02CB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F89F2-9B2A-498E-BF2A-31863419C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EEE4A-990B-4B32-BD84-12EB06974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65DA7-C011-4C62-96EE-F66EDF2F6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E543C-1C02-414B-A5D5-F2394B4D6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60D92-4D8C-416D-A477-DC808BC61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FF121-90F2-4BF0-9639-789F0A88E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B4977-FB0C-41A2-AB35-770554756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ABF70-8F38-4466-84E9-3BA2C95AA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1800" indent="-27180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91840" indent="-2260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28016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BCE32D-2C4E-4A4C-A545-722C11517AA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258920" y="836640"/>
            <a:ext cx="66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NEW MODES OF GATHERING SURVEY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195640" y="2781360"/>
            <a:ext cx="50403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ELLULAR PH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24000" y="189000"/>
            <a:ext cx="8496000" cy="6408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uan Díez Nicolás</dc:creator>
  <dc:description/>
  <dc:language>en-US</dc:language>
  <cp:lastModifiedBy>NickM</cp:lastModifiedBy>
  <cp:revision>0</cp:revision>
  <dc:subject/>
  <dc:title>Sin título de diapositiva</dc:title>
</cp:coreProperties>
</file>