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57726"/>
        <c:axId val="48976381"/>
      </c:barChart>
      <c:catAx>
        <c:axId val="64557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76381"/>
        <c:crosses val="autoZero"/>
        <c:auto val="1"/>
        <c:lblAlgn val="ctr"/>
        <c:lblOffset val="100"/>
        <c:noMultiLvlLbl val="0"/>
      </c:catAx>
      <c:valAx>
        <c:axId val="48976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57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883-2E2A-4169-B9FC-BC7F657A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F56-32A8-4C16-B1DA-333E5466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22D-773D-433D-ADE4-FD73EE29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099-566F-4246-8475-7F67AB28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638-1934-4A2E-9110-DBF48F9E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271-095F-4A2E-A72F-A4976FF8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75B-6B9F-4747-BA9B-8870DCF4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B38-0EE4-48CD-8CAD-DFEA9F5D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268-8E96-4E9E-B093-DB4F974E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0C5-93FB-4552-AEE4-EC322655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9F1-2C5A-4D3E-BBA9-6A416714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9BA-AD03-465F-84DF-D459A83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22C26-03F1-48AD-A10D-270FF31077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