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22218"/>
        <c:axId val="42359171"/>
      </c:barChart>
      <c:catAx>
        <c:axId val="21222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9171"/>
        <c:crosses val="autoZero"/>
        <c:auto val="1"/>
        <c:lblAlgn val="ctr"/>
        <c:lblOffset val="100"/>
        <c:noMultiLvlLbl val="0"/>
      </c:catAx>
      <c:valAx>
        <c:axId val="42359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22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7D1-B586-456E-AB89-7329E221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BEA-AC74-47F2-8478-E4E39555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63D-5508-41B1-B66D-FC1C5867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3DB-AC2D-47B2-A13B-8B86802F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1EF-1DB2-4848-BEF8-4C19192C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945-3C25-404E-ADD5-0606228B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99E-8056-4D79-9623-96A9832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970-A839-4F99-B9D8-BFE436B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13B-0FE5-4461-B636-005A3D7E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341-5A7C-485D-874E-41BE073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29D-5CC3-4E9F-BE25-5DE2351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FF3-1CCA-441C-B4B2-ECBD598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4B794-7316-4823-B8CD-6F597C39CD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