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694062"/>
        <c:axId val="91609916"/>
      </c:barChart>
      <c:catAx>
        <c:axId val="166940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609916"/>
        <c:crosses val="autoZero"/>
        <c:auto val="1"/>
        <c:lblAlgn val="ctr"/>
        <c:lblOffset val="100"/>
        <c:noMultiLvlLbl val="0"/>
      </c:catAx>
      <c:valAx>
        <c:axId val="916099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6940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7024-F325-444B-A96B-81595E873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528B-38CC-419D-8768-C4489790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0C81-B95B-432B-AD57-160891EA8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3C24-33FE-4352-8B52-BD6B677DE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86CF-64E4-41B2-A8A7-86A643D1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DEF6-4E76-4433-ACD4-33B7F31E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D3C9-7568-4273-9D90-A413E930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77A2-697C-4418-B3E6-8369D1A9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C954-A11D-42DB-ADA0-7CF8FC7A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35D9-C3CF-417F-ABFB-79369F8F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6DAE-BD99-4AA5-B9AD-17AF44CE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9BAB-5A3B-4DD4-9F87-3E4B1AC0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8413A-669D-41EC-BFFA-44C1EE7C76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