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361645"/>
        <c:axId val="4019845"/>
      </c:barChart>
      <c:catAx>
        <c:axId val="1036164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19845"/>
        <c:crosses val="autoZero"/>
        <c:auto val="1"/>
        <c:lblAlgn val="ctr"/>
        <c:lblOffset val="100"/>
        <c:noMultiLvlLbl val="0"/>
      </c:catAx>
      <c:valAx>
        <c:axId val="40198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36164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B0588-A739-4DA2-AF21-F5AEA5E6F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A32A-0CA8-4AA9-8F8A-7D0A4DFA8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17DFA-ECFC-4C81-B4BF-14C70F86E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52A5-1CE2-49E4-8F0F-958073D3A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C832-F23D-4AC0-8DA7-0B6F5780A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DDCB-0D0E-41C7-839E-ED3680A76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F879-9ED8-4F60-AE72-2E6DD3B8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2874-F226-4585-A488-4A088B5C3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6459-6B50-4A2C-BFB4-ECE9F59C2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0AAC-1A4C-4C4E-BA5E-98AF7757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1639-6210-46C6-9761-AD59FD5DF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347C-D54B-4CA1-BCB8-1D6903D73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63FCB-F54C-45C7-9E3A-80F76FA1F5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