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37856"/>
        <c:axId val="6483826"/>
      </c:barChart>
      <c:catAx>
        <c:axId val="76537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826"/>
        <c:crosses val="autoZero"/>
        <c:auto val="1"/>
        <c:lblAlgn val="ctr"/>
        <c:lblOffset val="100"/>
        <c:noMultiLvlLbl val="0"/>
      </c:catAx>
      <c:valAx>
        <c:axId val="6483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37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F6F-824A-4E27-A9E1-94384A84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2A7-A565-4C75-9876-C3E563EB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91B-3849-43B4-B20A-20C9A9A9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4C5-1455-40F7-A1DA-0250A47C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C19-6947-4F1A-BF0F-43D9DB4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458-B239-4923-A1B4-6B4E360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852-6285-4657-AE38-E68F152C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247-00C1-4872-A861-96347BF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49B-EE8D-422B-8A2D-77E7872A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13B-4AF6-4481-98BB-1307771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841-E99F-4FD4-A751-DDD2DD97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C63-6998-47C3-B63F-B501E98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91520-233C-42FC-B3E6-D06D0854E3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