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593204"/>
        <c:axId val="17409892"/>
      </c:barChart>
      <c:catAx>
        <c:axId val="245932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409892"/>
        <c:crosses val="autoZero"/>
        <c:auto val="1"/>
        <c:lblAlgn val="ctr"/>
        <c:lblOffset val="100"/>
        <c:noMultiLvlLbl val="0"/>
      </c:catAx>
      <c:valAx>
        <c:axId val="174098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5932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8E3E-C73F-401A-ADE1-33CB93F37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82B5-7661-4CD7-87DB-DA40DB8E0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8FEF-255C-4971-BB3A-0FEFE4DCB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6DF0-4626-49ED-8598-D55883E28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5111-A411-4FF4-93FC-DF8A70FE3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B5D5-0BE6-462A-A5D0-454DF5C4B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7E4E-DB40-49F4-A40E-3EFF536BE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F62C-83E7-4D43-83BD-DDA8F83EA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DB6E-3D7D-48A6-B55B-AF2812CA0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12A9-5F71-4BD2-A387-A2658EBE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E174-B488-4D84-8C70-F3E65A5A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5BC5-30DA-4BDC-BCDB-0181E375F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A4CB5D-6F7C-4232-B83D-6F75C62A4E8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