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4799"/>
        <c:axId val="99942157"/>
      </c:barChart>
      <c:catAx>
        <c:axId val="10224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42157"/>
        <c:crosses val="autoZero"/>
        <c:auto val="1"/>
        <c:lblAlgn val="ctr"/>
        <c:lblOffset val="100"/>
        <c:noMultiLvlLbl val="0"/>
      </c:catAx>
      <c:valAx>
        <c:axId val="99942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4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B79-87CD-4F66-ACA7-2D91689D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A1E-8019-483D-902C-6A17640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C0C-F57B-4DFD-A187-654CDC90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B92-299C-4209-826F-2EB367C6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EF7-237B-46E1-96B5-6EE5F8C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BB1-CFD0-4FA4-B32C-1F6D5319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840-9CF1-4884-B2DB-9800C831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730-7A1B-46B6-B24E-02CDE3A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E1C-22F6-4248-AE78-41F0182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119-E0DB-4DBE-8945-CD44ADD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AC-3F72-4AE7-A9BE-5481E90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6BA-627E-47A5-A43F-C62A649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D931-3DBC-4B96-9239-28F0A75545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