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874118"/>
        <c:axId val="53093540"/>
      </c:barChart>
      <c:catAx>
        <c:axId val="738741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93540"/>
        <c:crosses val="autoZero"/>
        <c:auto val="1"/>
        <c:lblAlgn val="ctr"/>
        <c:lblOffset val="100"/>
        <c:noMultiLvlLbl val="0"/>
      </c:catAx>
      <c:valAx>
        <c:axId val="530935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741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704E-B13C-42A1-9EE0-48D31D896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0512-9AA5-4F49-A2EE-00833753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BF22-5165-41D9-A84E-44CE1557C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FCF9-3626-4BD7-A20E-722050D51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5364-CD37-4D4A-A1A6-B46FB56E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D9ED-F3BA-474C-8CF3-DE6FE402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8135-7608-4E85-BA98-D1FF9AF3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6BBB-D378-47C4-A3C4-2971CD30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662E-9E72-4FA5-933F-88302DB3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713F-B000-47C4-B2BE-8C6AD1E7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2D07-5218-4C9F-BB46-B1E825DA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F4C9-7400-43B2-A029-099D667D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A91F3-EE74-41AB-B0BD-D928C1441C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