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22130"/>
        <c:axId val="40785779"/>
      </c:barChart>
      <c:catAx>
        <c:axId val="54622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5779"/>
        <c:crosses val="autoZero"/>
        <c:auto val="1"/>
        <c:lblAlgn val="ctr"/>
        <c:lblOffset val="100"/>
        <c:noMultiLvlLbl val="0"/>
      </c:catAx>
      <c:valAx>
        <c:axId val="40785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22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678-DCED-439E-8757-568229FD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FEC-8C32-4576-B245-382E005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994-E7FD-4D66-82A6-7FFA3164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097-7CDF-4051-80E1-CA1FA5E7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964-9166-4AB7-BEC0-5CED9AE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1DE-DC92-48BA-B24B-ABC6D9F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CD5-AF9E-45F8-A564-7BADBEB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BA1-0B36-49A8-A8BC-C98E22B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24F-3FDF-4EC0-8FA0-72680CFE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4C6-8099-458A-ACC7-05DCB66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117-9221-4F0A-8C77-CF6C707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EE6-124F-4DA5-8737-FF418BC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975CA-662A-4AB1-997E-57B92BC18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