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978260"/>
        <c:axId val="25606683"/>
      </c:barChart>
      <c:catAx>
        <c:axId val="519782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06683"/>
        <c:crosses val="autoZero"/>
        <c:auto val="1"/>
        <c:lblAlgn val="ctr"/>
        <c:lblOffset val="100"/>
        <c:noMultiLvlLbl val="0"/>
      </c:catAx>
      <c:valAx>
        <c:axId val="256066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9782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CA19-C08A-490A-B737-3705974B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5882-C020-4017-AF3E-DF8DAF0C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F0DF-0C3D-47B0-B513-38FE16E12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AF20-3C89-4325-AA86-4180C107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A271-88F0-41DB-89FB-16EDC0CD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12C4-8347-4778-999F-89F6E3C8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421B-D2A8-4224-B849-B8081615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4602-3F74-4C89-BDDD-28B21ADF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BD6C-5BEB-4F9B-8410-A5134B6D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67AA-4986-4BFA-9BFB-D0A0C166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E999-7F97-433E-B006-CEB52972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1E05-B6F8-4A18-91C3-BAC53DFD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1215D-F6A2-4322-B329-AD3A288556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