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D0094B-E033-489D-A379-4A7B67FA4F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C731F4-D051-46B2-81AF-6CA2FDE917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7D5571-155D-45DC-BAD3-C36C30E841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B7D145-ECA0-4523-80BE-5507C78D01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769D7B-8A57-49EC-9C15-000BF50CD0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1BFA2F-31E6-4194-9099-E8564A0978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7650D8-89E5-4415-A863-2A2172C798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F18C34-732A-44A5-8E3A-13057F56C8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9FBC2A-C487-4E1C-A865-ACA8DD6270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7A9753-59F9-4EC2-B0C4-6F97486C33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E4E8DF-3CB0-462E-AFD0-79F1F50360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60BD50-FCE3-4B2D-80D8-8FB3E74518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15C16B-6AC5-4BB9-B652-5D8F4667C0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67489D-E10C-4D35-8AFB-EEDEC64FF1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ECF949-BB60-4FDF-8B84-C294421868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894942-9AC3-4453-B9BF-D10FDAA11B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F33B43-591B-465D-9DEC-B36229D9E1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F01297-B045-469D-AA60-5C6CE32664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31CC17-27DF-40A8-A7A3-E08BD1EBD4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FA198A-9D71-48FA-B36B-AB0BFD8B7D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F1BD7C-ABF4-463B-B7C9-1E1F0F3C9D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FBC12C-756F-425B-8047-F4906BF2F8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4E9CDE-4104-4E2C-9D67-FAA5F1366D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72869E-549F-4658-B265-491007E7DD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B47F2-9418-4AB7-9E5B-FCFACE6984D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EE2BE-6705-4522-95C0-AFB990D341D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FF58D2D-DB1A-417F-86BE-B0110446D87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4C61332-C18F-41EB-850D-8C14DC53247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118D63-03AF-4E65-899F-D29CF342B9B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2DA560-1BF5-43B7-BF0B-9597F07A6E1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3ADAEF-68A7-4650-BC9C-5D110C60E2B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BB6F53-6E40-4021-A8A1-98F768B3229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46AC42-3FAD-46EF-9511-18A813A2FED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559361-EEFA-411F-B770-DE7DEB68DEBC}"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4B3D45-6654-4C5A-AC2A-BDA4EE39393B}"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6046B6-24E7-47F1-B00C-A2DF3516062A}"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635DC2-D17D-428D-BD8F-A60FE54B4287}"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524A59-A596-4041-AF22-E34DCB24E5FD}"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D7DFB3-73DC-4400-A33B-9C1C268077E7}"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66DFF7-379D-4C2A-8238-DE05AA9C6BDE}"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04ABAD-DA71-498A-A0C3-EFF133F1F135}"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421B7B-AC72-4AD2-AEC5-1C966DBEBF47}"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059B08-A20A-44D3-94FD-8ECF1D800139}"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A51C5A-81DD-4E85-A50F-689BA163B110}"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1E7BDF-B8FE-4EC3-8542-4E3D403EFE14}"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79BDB5-8EA9-4037-A83B-249E9D371C57}"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6D9B26-B63E-42D7-A216-F7E2407B1522}"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B1C4EC-CCB8-458A-A23F-E2969508545B}"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11A93F-5D78-4FE0-A90F-1A5547135ECD}"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82EE27-44CF-4F61-A44E-124B59863E1E}"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A4AC05-6CB7-4D55-9176-4600998FCE53}"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E47D16-1BE0-4FBA-BFC4-91ED79DFB5F6}"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042417-4025-4DB7-A5AE-8703BD5D738D}"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D270989-7F51-48C3-94E6-A2E04631D0C9}"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D2DF3D-B6B5-4073-AAFD-D9082E4BD759}"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B4C510-2DDE-4922-9E51-E4A743F7200F}"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30D0B4-6144-4EF5-B72F-9C53973421D7}"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C0384A-1AC6-4682-94FD-58ADA439A21E}"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0C2CC6-E7A6-4FDF-B331-E6EA98F0676F}"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28E2F7-81C7-4C31-BD4B-A614C9418553}"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71F89D-05BE-4EAE-9BA6-5ABD440CBED0}"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A55581-28AD-42CD-8C28-BB9A9B3B34F3}"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337D03-3D04-465A-A447-6D2C4D5773C0}"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F457F0-0EDC-4DDB-99A2-2277079B1C89}"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04940E-EC13-408B-B098-B5D8C643A135}"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6D7BD1-2853-41AA-9E64-4B1D045512D7}"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ADF088-A9F7-4472-A357-117047DAD745}"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B3F45C-2754-4979-9192-0FE36F0FF551}"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A4BDD9-F4A0-4294-89B7-9B3A06B1433D}"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6A96BC-4982-438A-90CB-AFD83E8EC34D}"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F9967F-EF43-4864-9802-325391801923}"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7346B1-85D2-4356-A0D4-AB99B08BA123}"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E69A93-D6B8-4775-818A-FED95B87B6C2}"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CB6BA7-4AE6-4407-B71A-37A7F66046BB}"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D4A7AA0-67A4-46B6-ABC3-1F8F9C7F76B7}"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ACB930-E67E-47A2-88CB-870B319C9B25}"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9C15B1-0560-4B07-AEF9-0A1B93385F28}"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83C20E7-4E46-4CA7-9A0F-86BAB17D45BD}"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EB576F-694B-49FA-9EEA-B0B2B8704AC6}"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F3DBA4-8873-418C-AE9E-50E60A8FDBF2}"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12A9C6-776C-4DD9-B348-1668A662BBD6}"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D4C73D-6498-40F4-B847-D23BF1EE8B25}"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FF2A54-97A9-49DC-86A7-71FC10CC4187}"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FDE459-EAD8-4706-91CC-16AB6F8F1AE5}"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277F23-BFFD-4DBD-ADAD-FA21060CAD1A}"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97E01F3-02C6-4285-B1A4-A5E65A33EFF4}"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847613-218B-43D8-A595-6BF75C361D90}"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B58CC0-EB96-413B-A273-172A56B2769D}"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71CFE6-6C87-4372-A5FE-7F651BFDB68F}"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5EC557-0CF0-42F1-B573-823511F961DF}"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4D5D38-AF37-48F2-83E4-8EEFC591B4F9}"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572A756-BFC5-4760-BEE9-E11A9A7D9806}"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2BA1EE-7F1A-4AFD-AEE8-F25C19FC914D}"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9C1D62-B786-4500-B278-A8DE2B981C0F}"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A71EC8-22BC-4CDF-9708-F90D9F39CF55}"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72DF00-5D84-4F68-A715-4D2DA1725682}"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5FCA78B-A2DE-414A-969A-57024BD6BB72}"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35D49E-B9C0-4D17-9A1E-B7AF1D8BD9CA}"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ED96E0-5414-4469-A3AA-991F4BCD8DEE}"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F02713-72C5-4FC1-9899-BACCBBAA8CF6}"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BFA0D3-1272-4C88-894A-19FDB3D676F6}"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273FCE-02EB-4B48-8994-14CE55E88386}"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6ECF8A-BF27-4572-9060-6106CB6159BA}"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1C5BE6A-13EF-42DF-930D-5C5370835898}"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5523FF-BF3A-492F-9809-E780C0EB67AD}"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3409CC-30F4-4EB1-82A6-A8E2E317C60A}"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8884DD-BD34-4C39-B923-81AB2367F48E}"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991B314-6B80-41D2-81F0-7B98DA033588}"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2EA739-A653-4F01-84B6-5CC46BEC6D7A}"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E91DB44-A907-4F06-AA5F-35C85E63C98F}"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FD9C7C-B25E-4FB2-907C-3F513EB4FB32}"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62144A-0DBD-493A-A511-4842BA368171}"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2FBB71-02DA-43C4-A9E1-611B4AD21636}"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D5B8C5-BC4B-49DB-BFA5-8F844DE31B25}"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62284A-4EC9-4771-8D94-8A8440AF9DEF}"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6D176C-09FD-45D5-A3AD-81DFE32A3D9C}"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A153A6-5AEA-43D1-AF02-7852E347E8CC}"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46ABF0-00E9-4FBA-8897-B41A538485FF}"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97798A-1B9C-4D3C-8C9B-9961622DCEBB}"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B81B25-3867-4F7F-BA28-F88F5F17F122}"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E665A8-F69A-40A8-BE24-0B6E8901ECD8}"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05B001-EE06-4986-A8AC-061C31419613}"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E2F8C9-2789-43DE-9AC5-6F14113575D4}"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362588-6B2B-48C0-AF16-D486EE5F9EE4}"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614812-C62A-4A7C-9E02-75BADAE83866}"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40901A6-79BF-4578-9868-9614CFA9B329}"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DB546D-7235-480B-B3D6-7CCFA9597F7B}"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FE6FBD-3D16-4B86-8982-42C7AB6886C9}"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CD618B-69D2-47A3-BD45-EA3DFADE0789}"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A9C411-0250-4BF2-8A61-5F2006E62D26}"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1348F5-6E1D-488C-8256-A43AB5BBDA59}"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B91E13-8F4B-4F7A-B325-5288F6DEFAAA}"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A9E85F-43D3-4ADE-9AF4-A040B2AAE23D}"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A02CEA-5E92-4C7E-8953-7AE8415D688D}"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C3F850-6A9A-4448-9094-5EF620A43C6C}"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67D003-352D-4330-B8B4-27CE378D691F}"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C8EC6E-841A-41D3-A87D-E24FAADEA0A3}"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405013-D387-4FA8-AC70-18BAD635CA7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A159D9-DA38-4327-93D0-52531636D8B6}"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8F1A0F-24D3-40BB-8DD2-24048F8314BC}"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91334D-89D5-4C5F-AD1D-E2AECE5C4856}"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49383D-C626-4BDC-9E46-0297EB2728C7}"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7C7BEA-FC9E-4437-ACC7-2ED7B296F1C4}"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A234D8-7291-4C97-A862-730CC4001828}"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98DF1A-6981-44ED-A6A3-D13B9F836A45}"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336390-F168-4D45-8561-6753FABAB8C0}"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428C79-0DF0-4BFE-BE67-6D8AB005491E}"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9ECF29-95C6-4393-8D39-7366514E03C6}"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14064C-6D65-4C3D-9BD4-1311BAA3DC0F}"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B67C63-F261-4DF4-9BC2-9FB0A39D091F}"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62F5FE-6098-4E61-A1C7-B8756F47819D}"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7B983C-49C7-49D3-AE44-F216793EBE02}"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E76C26-1B97-4BF1-9EBE-FBD8F24D3D01}"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9047251-3C10-4A59-BE6A-BD0A602AEC0D}"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553509-4C49-4032-AC0D-E197065B2EA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798696-F6F2-47D5-9E5F-28B3B08F042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9A11A7-1D0D-4937-8354-05608078188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951740-0D00-41AE-8CDD-FF01FDF8EB3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E22080-AB1B-4A07-A944-76F49F7D4F8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A76224-680F-492D-A148-C61B3ED87FD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29CA7E0-CC31-4457-8CCD-2BE81E57777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E0A634-0B6A-43EB-A5DA-6B12DFB4D7F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E7968D-26D7-4322-BE87-A313F9F420B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1CE446-A952-4144-A3F1-06FBE701643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332703-DBE0-4245-9145-AAFCFD1D080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A71F71-2BB7-49A2-B053-0038E073000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6F47CC-1B4C-4CEB-8E2B-6EA4C64F68D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ED8556-CAF7-41D5-A6F4-88825E21DEA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1C4A73-EE11-440B-90B5-8F1EF61B1B6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9AADA5-BF66-43BC-A7E2-DB4B139C448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3F7334-2C99-436D-80BB-E10EB5F6BDB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F4FC9E-F535-4B51-83A9-10C1CDB220C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23223E-5A14-4E76-975C-E74C4741B67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4145CC-94BE-4830-B748-199FC314708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7CF550-DECE-4ED2-A6AB-11D952648BE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84638D-EE6C-4AFD-949B-38BFCEFBE95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A4C9D6-08DC-462C-9B3A-4FC8E44D0D3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EAAE8B-CAC2-4848-BCA4-84E55E104CD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A92058-CB06-4620-93CE-A4A4FD93420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0A233E-9844-41E1-B02C-E9C73CEF037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8101D3-2A19-47C3-B3CE-75F0346B55A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164539-05F4-453E-B501-080CADC0B6C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A59265-2D96-4D33-9279-45F4D20B18C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517BDE-0CC0-4B21-BD96-D4680F7FA4A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8A4413-C496-4353-855D-45060B28C4B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90D709-F0AA-4CD6-8F56-E0D02C90748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0BF6EF-2B47-4EC1-BC22-78A9636799F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686D47-C50B-4706-872A-E25A97ED34C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E68486-5583-4BA6-BE96-DB29B10731A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CBE939-F8E1-4E95-867D-FB7CED2A31E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6EA79A-FA83-4CB1-947E-28D48DEB753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891860-4DE3-4255-8A20-E0E713E6E60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CBDB19-205F-44D5-B328-EDA424414B6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7CE1E9-5859-483A-BFF0-9DE8F75D3FC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260FAC-FE38-45D6-BE98-6423162B86B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CEDF69-2EFC-4E05-AFCF-1DE5F840537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3A5A43-17FA-45E1-A007-4F88018A0D6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1683AC-68E6-479E-AB7F-9DE224666FA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98554D-67B3-4503-9E44-45AAA205031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2712CD-B598-4542-A8B5-5C3D178F48C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EC5EE0-BBEB-4416-890C-BCDA7C0CACD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79A6AE1-B098-4D24-94E4-DFB8F6748DE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0AB2A8-AA6A-4C29-9FC2-0FF6569F3A5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D44E48-3135-47FD-B3E1-78712DDB797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CFFD1D-75CB-471C-9EEE-D1008D67F0A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B27BE8-81A1-4203-9A52-88CBBAF0C21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C37E97-CDD7-4432-A18A-1CBCB71B68C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D01B39-49EA-49E1-A15D-34414B04BAC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01567F-EE3B-4D14-AABD-B1290AB446B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5B8C9F-B0D0-49BB-851E-2B957087689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5B85081-2532-40EE-B2A3-BB832884261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3FD878-4334-4ED1-8171-0BFF2DE9538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3EFE46-2860-4CEB-8267-FCFF0C314E0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B1708D-9A48-4909-8C19-3D0931F749F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F3C1A0-7DA8-4A3E-8D65-F4B0F93396E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F57F69-B605-4A11-AB9D-6DF59DBBA63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D9B8EF-C28D-4F67-BFBA-7619B4DB0F6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57AF8C-CF78-4BD7-A2C0-4AF2F9F1061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C3A727-B9EC-4D8C-BE48-7196E5CA62B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D080BB-8169-432C-AD4B-B0AD3F08250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066720-AF0E-4E41-A515-65B1B8AFC58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052157-733C-4C7D-968A-72019107671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8F268C-F2B2-405D-AA38-67EB6F9A5D4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35EF57-AC26-4726-AD01-6AE0B30447B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2F2B5D-B829-4DCF-83ED-E05CC6A25E3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34C75EE-2759-45F5-AE36-50B9FEF21C2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ABFE4B-0A0A-4013-BE65-9D3AAAB6454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435406-7DBC-4B49-98BF-A579A885346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217371-5B87-40B7-81A3-BEEA19FDA30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B5D1FF-EC33-4A1D-A790-CF4DDAC4753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BF03E6-2EB3-4DC9-81BE-167E9C80501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12C639-6BF3-43FB-9435-39D8A8E3736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983C4B-EE4C-4955-BA75-2FD15A76AC8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4D587D-0072-4B88-8236-97892EBD27B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96E8CD-812A-4AEC-8933-47CD2DD7674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31ED5D-1804-4AC0-B1AC-A6100C34F88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285959-BEE2-413D-845B-35FBAA131E3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5595F6-5BEA-42D5-A5C8-A6F7D3B576A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CE8B04-58E5-48AD-A399-B4F55FB06E2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